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1A56-A73C-4587-AFEB-FD30659D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399D-49F5-4E12-99A9-4C497570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D680-2507-4065-94D2-FEA2D3C0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A592-D666-4C61-84F1-39AEF806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426D-3E29-48B1-A96A-C9AEFCC5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E294-EF23-47FE-B9FE-4B023A2A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3AD7-5B90-4497-8EE1-259CFA02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7759-5DDA-4B53-A9D3-D41993D0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1B7B-2C59-47AA-BCCA-EEE8A3FB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32C2-8284-4B76-8293-4BB60EE3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4AAF-46BC-4601-A5E6-AF651AC9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BE29-9D7A-4DD5-B839-68E95881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7369-0DA4-4E5C-B595-7359221BE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33720" y="3457440"/>
            <a:ext cx="5095800" cy="3400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05120" y="304920"/>
            <a:ext cx="525780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08:44:38Z</dcterms:created>
  <dc:creator>Kononovich Eugeny</dc:creator>
  <dc:description/>
  <dc:language>en-US</dc:language>
  <cp:lastModifiedBy>Kononovich Eugeny</cp:lastModifiedBy>
  <dcterms:modified xsi:type="dcterms:W3CDTF">2005-08-31T08:45:12Z</dcterms:modified>
  <cp:revision>1</cp:revision>
  <dc:subject/>
  <dc:title>PowerPoint Presentation</dc:title>
</cp:coreProperties>
</file>